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D8C1-048D-4D27-8294-D03224BC2E0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ACFAA-5D8D-4F4F-9620-91C5638D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D47E-46BB-46EF-9840-55ACBA54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21D1-7A6B-4804-B6B2-85F5115F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F94AE-3F99-4BDD-94D7-B356E041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CE531-5DDD-4AF6-BED3-36D860D1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B585F-D122-43BF-A874-0807A381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FEFCD-33A4-4184-B8DA-CF970521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F60F5-6597-4E83-B319-36664B06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BCC90-0BD5-40A4-B1D3-E306872C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8FB7D-C88E-4193-93FC-169E17F1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B2CF5-069B-4B02-BB47-D12A6A1B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F8BE8-99B0-4793-B87D-BCFBDF7B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CFEBE-4188-4DBC-82E6-2614C91E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56034-0F5E-48ED-9B7F-8D965AAB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E004F-4301-428B-BFDD-992DD924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9F672-1BF6-4955-A3A3-12895848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62DC7-EE13-4999-BDB0-BE1E0953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22A0BD-1DB2-47E0-AE99-E3684F58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CABEA1-211F-4372-92DC-B6F9A952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F5A7AC-CF1B-4C2D-812D-D06B7CFC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35D627-BA24-44BC-81B1-DC5E3E8B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6E406E-EE65-49B1-A23A-E3960DDC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F5EC3-0E71-48A8-9DFC-63A3F934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ACD559-D628-4AE6-9297-9DD526A1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0ABD8E-CC0E-4A85-BE3F-30CD41D0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91CFBA-EED5-4042-BEA5-74F8940A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94BAFB-4E74-40F6-9471-C29F3BC5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AF25A3-6715-4E24-B5E3-C61FF585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FFACFA-340F-4A8F-B3F1-0EC03AAC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D02463-000D-4B09-B9F7-D37A4EB1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1F140-2162-4317-9E50-F95A886F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8ED27-5F8B-4533-84E5-F2EFDA48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5FEF7-7244-47BC-9EA7-B809CC69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BB19D-121F-4956-A871-69A50322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09D07-99E8-4D64-942D-1D990D2F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6D10-F719-4840-8552-D0E7E692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712C-FAF4-4A5A-ABB0-C5FBCCE1D905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57ED-56FF-4D30-8478-FF7D2B6C6803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0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ACFD-025E-401F-A3F9-9A70DB94E8CF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AF0F-BA4D-41A6-866C-FA91C5785C7A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0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07D9-35CE-45AC-9576-D6C5B049FFEF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218B-8ED2-440B-878E-5EB677A65D6B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0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chaffung eines Container - Tragwage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Berechn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1760" y="6093000"/>
            <a:ext cx="2797200" cy="461880"/>
            <a:chOff x="131760" y="6093000"/>
            <a:chExt cx="279720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760" y="6308640"/>
              <a:ext cx="278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de_2015-05-11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1760" y="6093000"/>
              <a:ext cx="82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kument 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E664-F138-4925-9ECC-9E0979139AA1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Alternative B  (Plan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5A3F-7CFD-4239-8EE3-17885C3C3E1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49"/>
          <p:cNvSpPr/>
          <p:nvPr/>
        </p:nvSpPr>
        <p:spPr>
          <a:xfrm rot="20397600">
            <a:off x="6312960" y="786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69840" y="2292480"/>
            <a:ext cx="97362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rgebnisüberblick und Erläuter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itere notwendige Hebel / Aspek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wusst nicht berücksichtigte Aspekte haben folgenden Effekt:  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ä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apitalwer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ückgewinnungszei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Jahre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Break-even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Jah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positive Werte:  Erlöse,    negative Werte:  Aufwand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Rückgewinnungszeit:  Anzahl der Jahre bis die Planungsvariante sich rechnet. Sinngemäß auch mit Gewinnschwelle oder Break-Even bezeichnet.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Annuität:  durchschnittliche jährliche Kosten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A351-AD89-4BCB-8BC8-65372044BE1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nnzahl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antwortliche  Abteil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andhaltungs- Dokumentations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enquel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änderung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ungsvariante zu Weiterführungsvariant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nnzahl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ufleistung zwischen der Radreprofilier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1B56-F2E0-411B-BE37-4CBD718DB051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Ergebnisplanung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Delta der Variante „B“ zur Variante „A“ [= Null-Lini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838F-4FE6-4832-9403-309690A75038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Textfeld 49"/>
          <p:cNvSpPr/>
          <p:nvPr/>
        </p:nvSpPr>
        <p:spPr>
          <a:xfrm rot="20397600">
            <a:off x="6161040" y="72360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46" name="Picture 11" descr=""/>
          <p:cNvPicPr/>
          <p:nvPr/>
        </p:nvPicPr>
        <p:blipFill>
          <a:blip r:embed="rId1"/>
          <a:stretch/>
        </p:blipFill>
        <p:spPr>
          <a:xfrm>
            <a:off x="930240" y="1488960"/>
            <a:ext cx="8010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Rückgewinnungszeit  (Break-even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A7DC-0079-4582-BEA7-4794BEE300D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Textfeld 49"/>
          <p:cNvSpPr/>
          <p:nvPr/>
        </p:nvSpPr>
        <p:spPr>
          <a:xfrm rot="20397600">
            <a:off x="5552280" y="38844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0" name="Picture 7" descr=""/>
          <p:cNvPicPr/>
          <p:nvPr/>
        </p:nvPicPr>
        <p:blipFill>
          <a:blip r:embed="rId1"/>
          <a:stretch/>
        </p:blipFill>
        <p:spPr>
          <a:xfrm>
            <a:off x="609480" y="1461960"/>
            <a:ext cx="861084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pfehl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e Beschaffung des Container-Tragwagens des Herstellers B wird empfoh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ewählte Variante / Empfehlung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grund der radial einstellbaren Radsätze ist die Verschleissrate der Räder geringer. Die Lebensdauer als auch die Reprofilierungszyklen sind dadurch deutlich lä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grund der höheren Qualität der Container Befestigungssystem ist der IH-Aufwand geringer gegenüber dem Container-Tragwagen des Herstellers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egründ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ückgewinnungszeit:  13 Jahr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lere Einsparung pro Jahr (Delta Annuität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lärung der finanziellen Option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oraussetzungen für Umsetz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stellen eines Beschaffungszeitpla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Zustimmung durch das Controlling einho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iteres Vorgehen                         Termin/Verantwortl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DE0E-DDEB-4C49-9924-153986DA6E26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eigabe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65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Erstellt v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erfolgung der Umsetzung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68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69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0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1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Herstell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2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3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74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5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6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9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0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1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2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85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Freigegeben von Auftraggeber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86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87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8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2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393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4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5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9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0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1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06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CB5F-D63E-432F-89E7-BBD100FF3318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schaffung von 85 neuen 60’ - Container – Trag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h erfolgter Qualitätsprüfung durch den Betreiber (Quality gate), verbleiben nur noch die Container – Tragwagen der beiden Anbieter A und B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unde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antwortung LCC-Berechnung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Auftrag v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09.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Fertigstellung a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.01.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Die Lebenszykluskosten (LCC) der beiden verbliebenen Varianten sind zu kalkulier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Kunde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usgangs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- Aufgabenstell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eckbrief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steller der LCC-Berechnung, Termin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6600" y="6419880"/>
            <a:ext cx="583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ziert,  A = Abgestimmt  E = Entschieden,  V = Voraussetzung geschaffe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k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E          V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B5B1-ADB9-458A-8E23-3A4DAB4A46C3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-Rahm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levant, aber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ßerhal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nerhalb 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stgelegt am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urch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41600" y="2448000"/>
            <a:ext cx="15494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i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41600" y="3286080"/>
            <a:ext cx="15494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Container Befestigungs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6888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 Radsatzwechsel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68880" y="328608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 Sgns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67080" y="4116240"/>
            <a:ext cx="143856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49520" y="4103640"/>
            <a:ext cx="1547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 380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 anderer Komponenten des Wagen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ieverbrauch während des Betieb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rastruktur - Nutzungsentgel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adung / Entladu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Geschwindigkeit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70BD-3189-4424-9AFA-8F9F739F276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uktur des Produktionsmittels / Systemzusammenhänge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rahmen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bautei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werk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dsatz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907720" y="4218840"/>
            <a:ext cx="178020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907720" y="5515920"/>
            <a:ext cx="178020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Befestig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CE1B-354F-42B7-B5F7-5492C4304E91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49"/>
          <p:cNvSpPr/>
          <p:nvPr/>
        </p:nvSpPr>
        <p:spPr>
          <a:xfrm rot="20397600">
            <a:off x="675288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roffene LCC-Kostenblöck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13D2-F156-4039-A76B-B360391E9148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feld 49"/>
          <p:cNvSpPr/>
          <p:nvPr/>
        </p:nvSpPr>
        <p:spPr>
          <a:xfrm rot="20397600">
            <a:off x="553356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32" name="Picture 20" descr=""/>
          <p:cNvPicPr/>
          <p:nvPr/>
        </p:nvPicPr>
        <p:blipFill>
          <a:blip r:embed="rId1"/>
          <a:stretch/>
        </p:blipFill>
        <p:spPr>
          <a:xfrm>
            <a:off x="104760" y="1550880"/>
            <a:ext cx="9698040" cy="50022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2"/>
          <p:cNvSpPr/>
          <p:nvPr/>
        </p:nvSpPr>
        <p:spPr>
          <a:xfrm>
            <a:off x="271440" y="3789360"/>
            <a:ext cx="21826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5076720" y="3068640"/>
            <a:ext cx="22114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5105520" y="39654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ielsetzung &amp; Kurzbeschreibung je Variant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Zielsetz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reduziertem Instandhaltungsaufwan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bekannten Eigenschaften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urzbeschreibung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glichen mit den existieren Wagentypen sind die Lebensdauer der Räder als auch die Reprofilierungszyklen größer.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Zuverlässigkeit der Container –Besfestigung ist signifikant höher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niedrigeren Investitionskosten führen zu ähnlich hohen Instandhaltungskosten, wie derzeit üblich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EF51-D7F8-4A4C-9EAD-4575763CDB3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Textfeld 49"/>
          <p:cNvSpPr/>
          <p:nvPr/>
        </p:nvSpPr>
        <p:spPr>
          <a:xfrm rot="20397600">
            <a:off x="568620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arianten: Nennung der wesentlichen Unterschie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kulationszinssatz::            10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srate:                           3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ebensdauer des Waggons:   25 Jah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tlere Jahreslaufleiistung:   115.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nahmen bleiben unverändert und gleich hoch für beide Varianten. Deshalb wird ausschließlich die Kostenstruktur der beiden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ianten verglich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inweise auf allgemeine Annahmen für alle Varianten, Erläuterungen und kritische Faktore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Radsätz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hrwerks - Typ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ehgestell mit zwei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ehgestell mit zwei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ich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 der Container-Besfestig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bessert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Container-Befestigungen pro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CA76-B8D3-40D8-9947-F916513F695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Textfeld 49"/>
          <p:cNvSpPr/>
          <p:nvPr/>
        </p:nvSpPr>
        <p:spPr>
          <a:xfrm rot="20397600">
            <a:off x="6017400" y="399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fstellung der Kostendat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osten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.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.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Radwechs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92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rsatz der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18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9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Korrektive Instandhaltung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dsatz - Reprofilier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5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7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8237-D70C-4745-B326-990B050FF830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Variante A (Weiterführ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9771-0203-49BD-968C-8D957F5BF19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Textfeld 49"/>
          <p:cNvSpPr/>
          <p:nvPr/>
        </p:nvSpPr>
        <p:spPr>
          <a:xfrm rot="20397600">
            <a:off x="6313320" y="936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1"/>
          <a:stretch/>
        </p:blipFill>
        <p:spPr>
          <a:xfrm>
            <a:off x="49320" y="2187720"/>
            <a:ext cx="98298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7T22:18:58Z</dcterms:modified>
  <cp:revision>109</cp:revision>
  <dc:subject/>
  <dc:title>Slide 0</dc:title>
</cp:coreProperties>
</file>